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8FE8-04FB-4B3E-B80C-14955408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135-012B-4CD7-B24C-DAFE4CE4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CC92-59BB-484A-BB8B-CDD09089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B1FF-0FC6-4CBA-A6C1-28E21718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2AD3-F8C4-42E7-965D-BD2A7B4C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FE58-F282-4BEF-84F7-837D0656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0C5-6961-467B-85F1-756ADEB0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694-8125-49E2-A3E3-663EDCAA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B06-B282-443F-9A5E-F9DF0EC4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A75-7B91-40F6-BD23-759E466C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6E33-4A4C-4245-9390-4509BB2F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B146-AB76-46CD-91ED-269BEA0E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9475-7DC3-494D-AA52-78196B219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أمر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بالمعروف والنهي عن المنكر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من من عذاب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13800" cy="568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324000" y="3645000"/>
            <a:ext cx="4211640" cy="904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250920" y="4724280"/>
            <a:ext cx="4316400" cy="1944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6"/>
          <a:stretch/>
        </p:blipFill>
        <p:spPr>
          <a:xfrm>
            <a:off x="250920" y="2492280"/>
            <a:ext cx="4284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395280" y="957240"/>
            <a:ext cx="8532720" cy="1895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250920" y="2852640"/>
            <a:ext cx="86421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179280" y="1438200"/>
            <a:ext cx="8713800" cy="523080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23920" y="589284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طاعة الله والرسول في كل أمر والبعد عن كل ما نهى عن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503280" y="1125360"/>
            <a:ext cx="820260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2679840" y="3213000"/>
            <a:ext cx="6222960" cy="135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5"/>
          <a:stretch/>
        </p:blipFill>
        <p:spPr>
          <a:xfrm>
            <a:off x="3378240" y="5365800"/>
            <a:ext cx="553716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179280" y="249228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وف من الله تعالى والدعاء بأن يثبت الله قلبه على الإيم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452592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سماع تفه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3351240"/>
            <a:ext cx="86281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134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73280"/>
            <a:ext cx="854208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6965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116000" y="1197000"/>
            <a:ext cx="7707240" cy="4392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7667640" y="342900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8642160" cy="5399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250920" y="389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ا تعرضو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581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يو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229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كلام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8723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جيبوا الله والرس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سماع الذي نفاه الله عن المشركين في قوله تعالى :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هو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ماع تدبر وعظ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49228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ما سماع التبليغ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قامت الحجة عليهم به بما سمعوه من آي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213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أن من  الناس من هو شر من الدواب وأحط منزل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الله تعالى وهبهم أسماعاً وأبصاراً وأفئدة فاستعملوها في معصيته وتركوا طاعته وأم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منع الإيمان والخير إلا ع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خير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1730520" y="1484280"/>
            <a:ext cx="2481120" cy="4842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179280" y="4797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ان عدم هداية الله ل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أنفسهم لا تقبل الخير ولا تميل إلى الهدى إذ عرف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44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استجابة لله ولرسوله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اة المسلمين الحقيقية وقوتهم وعزت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609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طريق سعادة المرء في الدنيا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تقوى الله وطاعة رس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طريق سعادة المرء في الدنيا يكون بتقوى الله وطاعة رسوله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85264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قلوب بيد الله تعالى يصرفها كيف يش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عائ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يا مقلب القلوب ثبت قلبي على دينك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86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ذر من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450864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ضررها لا يقتصر على الفاعل فحسب بل يتضرر بذلك المجتمع بأس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5445000"/>
            <a:ext cx="866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ضرر الفسوق والمعاصي والمنكرات لا يقتصر على الفاعل فحسب بل يتضرر بذلك المجتمع بأس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ذا ظهرت المعاصي في أمتي عمهم الله بعذاب من عنده ...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527040" y="1989000"/>
            <a:ext cx="83311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